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5F96-139E-478D-9D1D-31F951867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3AB1-99BF-4A1C-9B65-E38EFF1C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9A99-BE8E-4919-9AA2-354AB716D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8BEA-42D5-478B-A75D-CC24741FE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69BF-4072-43D8-911E-60C5E753C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67F4-9678-47FB-830C-CF819D1B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B749-9308-4E61-BCDA-1586E9A2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10E9-153E-4D43-A88A-E90537C8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22F4-0429-4F22-A6BA-071DD288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0BC9-A322-430A-A521-888BBFE0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0263-3405-4C49-B40B-E7E9C346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A1BC-F270-4BE6-8BB5-FEF7C9FB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C658-6E8C-460E-A578-4BD49D10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1CF6-A6E7-4C1A-BF2B-499A8C4C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820B-B48F-4E41-94FE-3FC2FF70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4079-0A05-4C9D-9B09-06932AF1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5690-F0CE-41EE-866D-AAED92006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E6F8-355D-4419-B6E8-EB1C7DF0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888B-55D8-4153-9A3F-D00EE6ED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DCD5-A9FB-49CC-A9ED-3E38EE55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3177-F97D-4949-BF93-10B1C3F9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A367-1DA9-4507-8A41-005BCBFB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7936-7BBE-4118-AFF6-E5CB4271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945D-1E77-4B3A-BB8E-3DBBE95E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ECC8-15CF-4F07-A70C-018F9D56CF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24A5-B45F-4E43-A14D-8C6BB3122A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ib.hotchalk.com/contents/4550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cision 2008:  Why the Debates Matt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 Government and Polit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ck 8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r. Frec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istorical Debate Moments:  2000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idential Deb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 Gore (Democra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orge W. Bush (Republica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lib.hotchalk.com/contents/459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 Moment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re’s odd mo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ategery vs. Lockbox (SN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istorical Debate Moments:  1858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llinois Senate Deb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ven Douglas (Democra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raham Lincoln (Republica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lib.hotchalk.com/contents/15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e Moment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Unknown Lincoln holds his own against established Douglas in debate over slav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istorical Debate Moments:  1960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idential Deb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hn F. Kennedy (Democra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chard Nixon (Republica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lib.hotchalk.com/contents/475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e Moment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JFK “looks” President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istorical Debate Moments:  1976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idential Deb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immy Carter (Democra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rald Ford (Republica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lib.hotchalk.com/contents/456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e Moment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Ford flub about Cold War geograp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istorical Debate Moments:  1980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idential Deb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immy Carter (Democra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nald Reagan (Republica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lib.hotchalk.com/contents/454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 Moment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you go again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 you better off now than you were four years ago?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istorical Debate Moments:  1988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idential Deb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chael Dukakis (Democra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orge H.W. Bush (Republica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http://lib.hotchalk.com/contents/455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e Moment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Kitty Dukakis Ques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istorical Debate Moments:  1988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ce Presidential Deb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loyd Bentsen (Democra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n Quayle (Republica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lib.hotchalk.com/contents/444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e Moment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“You’re no Jack Kennedy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istorical Debate Moments:  1992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ce Presidential Deb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 Gore (Democra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n Quayle (Republica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mes Stockdale (Refor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lib.hotchalk.com/contents/505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e Moment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“Who am I?  Why am I here?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istorical Debate Moments:  1992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idential Deb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ll Clinton (Democra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orge H.W. Bush (Republica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ss Perot (Refor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e Moment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feel your pai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h checks the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7:10:32Z</dcterms:created>
  <dc:creator>Brent J. Freccia</dc:creator>
  <dc:description/>
  <dc:language>en-US</dc:language>
  <cp:lastModifiedBy>Brent J. Freccia</cp:lastModifiedBy>
  <dcterms:modified xsi:type="dcterms:W3CDTF">2008-09-21T19:43:04Z</dcterms:modified>
  <cp:revision>2</cp:revision>
  <dc:subject/>
  <dc:title>Decision 2008:  Why the Debates Matter</dc:title>
</cp:coreProperties>
</file>